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2FF0-EB9E-470F-A9A9-E014B1C4E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AF34-3988-459E-9A3B-F8FC752A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040A-1D28-4ABA-9D99-7977D9D0E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A25C-770E-435A-A0B3-58FEC44F3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6652-8C0E-42D7-8A1F-B66FED53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5E4A-1B14-4308-81CC-DF715F27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AEF4-7636-4864-895B-2FDB8434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295F-C76D-4C85-8B83-2E4FCE84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F2E8-D7EF-4B51-BB64-D74E0A4A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EA40-185C-4DE9-8BBE-31E61502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A4F5-BC54-4DCA-9B91-2601A7FE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BC9F-3DBA-4F81-978A-88A8F40A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C23D-AA1D-4E47-AFD1-CA3AFBD761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-45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iele für he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Find a German speaking city (google Eart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ick a date for your broadc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WETT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earch typical weather in that region and at that time of y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 your PowerPoint with the wea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ctures of weather, temperature in Celsius, forec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INTERVIEW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ck an anim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d a pi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 scri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1T13:55:50Z</dcterms:created>
  <dc:creator>ahart</dc:creator>
  <dc:description/>
  <dc:language>en-US</dc:language>
  <cp:lastModifiedBy>Alissa Hart</cp:lastModifiedBy>
  <dcterms:modified xsi:type="dcterms:W3CDTF">2014-10-27T13:04:08Z</dcterms:modified>
  <cp:revision>5</cp:revision>
  <dc:subject/>
  <dc:title>Ziele für heute</dc:title>
</cp:coreProperties>
</file>